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B5F0-D4F8-4A09-BD4B-FE5C8CA9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B592-385A-4A49-B4C2-3E63C546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8F3-DE66-47FF-A5EB-2EF1BDC3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B7D-5CA5-4CAC-96A6-84A46F56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BF60-E0E6-4AAE-887C-69776C98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35FF-F56B-4EBA-A753-8232A1D3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846-C1B3-4431-8771-C8FF4049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2E9-635A-4834-889A-6C8CDE52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DD3-6687-4748-B20F-7F9F9060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2DB-AF9B-48CF-BD34-C6328009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1FB-3049-4330-9F6E-4D96D299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B1B5-C942-46C0-B198-61C6C04F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4D86-21F8-43C0-B0DD-EABA3E4BB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urveymonkey.com/s.aspx?sm=HC3wBryQD9rupWk7XMWZYw_3d_3d" TargetMode="External"/><Relationship Id="rId2" Type="http://schemas.openxmlformats.org/officeDocument/2006/relationships/hyperlink" Target="http://www.surveymonkey.com/s.aspx?sm=HC3wBryQD9rupWk7XMWZYw_3d_3d" TargetMode="External"/><Relationship Id="rId3" Type="http://schemas.openxmlformats.org/officeDocument/2006/relationships/hyperlink" Target="http://www.surveymonkey.com/s.aspx?sm=HC3wBryQD9rupWk7XMWZYw_3d_3d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lobalwarmingarchive.com/AdvancedSearch.aspx" TargetMode="External"/><Relationship Id="rId2" Type="http://schemas.openxmlformats.org/officeDocument/2006/relationships/hyperlink" Target="http://www.socialstudies.com/c/article.html?article@WCB2271+s@m7kSmmjAqAKyU" TargetMode="External"/><Relationship Id="rId3" Type="http://schemas.openxmlformats.org/officeDocument/2006/relationships/hyperlink" Target="http://www.socialstudies.com/c/article.html?article@WCB2273+s@qHTgaUpstDKbM" TargetMode="External"/><Relationship Id="rId4" Type="http://schemas.openxmlformats.org/officeDocument/2006/relationships/hyperlink" Target="http://www.socialstudies.com/c/article.html?article@WCB2274+s@vaX7HzjNYPGHc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vaintel.wikispaces.com/file/view/Unit_Plan_A Way with Words.doc" TargetMode="External"/><Relationship Id="rId2" Type="http://schemas.openxmlformats.org/officeDocument/2006/relationships/hyperlink" Target="http://vaintel.wikispaces.com/file/view/Unit_Plan_A Way with Words.doc" TargetMode="External"/><Relationship Id="rId3" Type="http://schemas.openxmlformats.org/officeDocument/2006/relationships/hyperlink" Target="http://vaintel.wikispaces.com/file/view/Unit_Plan_A Way with Words.doc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Project Over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3124080"/>
            <a:ext cx="8382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A Way with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Technology </a:t>
            </a:r>
            <a:br>
              <a:rPr sz="5400"/>
            </a:b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Research Tool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C/T 6-8.6  The student will use technology to locate, evaluate, and collect information from a variety of sourc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Problem-solving and </a:t>
            </a:r>
            <a:br>
              <a:rPr sz="5400"/>
            </a:b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Decision-making Tool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23320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C/T 6-8.8  The student will use technology resources for solving problems and making informed decisio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80880" y="304920"/>
          <a:ext cx="8610840" cy="6190920"/>
        </p:xfrm>
        <a:graphic>
          <a:graphicData uri="http://schemas.openxmlformats.org/drawingml/2006/table">
            <a:tbl>
              <a:tblPr/>
              <a:tblGrid>
                <a:gridCol w="2845080"/>
                <a:gridCol w="2793960"/>
                <a:gridCol w="2971800"/>
              </a:tblGrid>
              <a:tr h="16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fore project work begins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udents work on projects and complete tas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fter project work is comple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-W-H Ch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uestio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rainstorm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ink-Pair-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Sh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flections Blog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using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1Cla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urvey Monkey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Poll for prior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knowle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andou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alyzing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nformation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Rubr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ritten news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artic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ritten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valu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flections Blog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using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1Class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-W-H-L Ch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ject Rubr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line T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lf-Assess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flections Blog  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using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1Cla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ample Assess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rvey Monke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ll for prio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knowled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Arial"/>
              </a:rPr>
              <a:t>Sample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519120"/>
          <a:ext cx="9144000" cy="517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04920" y="1981080"/>
          <a:ext cx="8610480" cy="4647960"/>
        </p:xfrm>
        <a:graphic>
          <a:graphicData uri="http://schemas.openxmlformats.org/drawingml/2006/table">
            <a:tbl>
              <a:tblPr/>
              <a:tblGrid>
                <a:gridCol w="1746000"/>
                <a:gridCol w="1676520"/>
                <a:gridCol w="1673280"/>
                <a:gridCol w="1812960"/>
                <a:gridCol w="1701720"/>
              </a:tblGrid>
              <a:tr h="289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EGOR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7"/>
                    </a:solidFill>
                  </a:tcPr>
                </a:tc>
              </a:tr>
              <a:tr h="16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entifies fact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accurately locates at least 5 facts in the article and gives a clear explanation of why these are facts, rather than opinion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accurately locates 3-4 facts in the article and gives a reasonable explanation of why they are facts, rather than opinion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accurately locates less than 3 facts in the article. Explanation is weak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has difficulty locating facts in an articl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entifies opin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accurately locates at least 5 opinions in the article and gives a clear explanation of why these are opinions, rather than fact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accurately locates at least 3-4 opinions in the article and gives a reasonable explanation of why these are opinions, rather than fact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accurately locates less than 3 opinions in the article. Explanation is weak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has difficulty locating opinions in an articl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mariz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uses only 3-5 sentences to describe clearly what the article is about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uses less than 3 sentences to accurately describe what the article is about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summarizes most of the article accurately, but has some slight misunderstanding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 has great difficulty summarizing the articl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0" y="990720"/>
          <a:ext cx="9124920" cy="944280"/>
        </p:xfrm>
        <a:graphic>
          <a:graphicData uri="http://schemas.openxmlformats.org/drawingml/2006/table">
            <a:tbl>
              <a:tblPr/>
              <a:tblGrid>
                <a:gridCol w="9124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- Analyzing Informat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y Fact vs. Opi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cc66"/>
                </a:solidFill>
                <a:latin typeface="Arial"/>
              </a:rPr>
              <a:t>Special Needs Stud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e modifications as dictated in the student’s IE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 with a heterogeneous group for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Arial"/>
              </a:rPr>
              <a:t>Supply an outline of the tasks and timeline for the final proj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 group best suited to work with this stu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Arial"/>
              </a:rPr>
              <a:t>Provide extra time as needed to complete individual assig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just guidelines for the number of different media studied based on individual modifications for special needs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ccff"/>
                </a:solidFill>
                <a:latin typeface="Arial"/>
              </a:rPr>
              <a:t>Nonnative Speak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vide support through the use of a language special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vide a translating dictionary for translating words used in different med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ir English language learners with more advanced bilingual students who share a common langu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vide some resources in the native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Gifted/Talented Stude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hance the presentations with additional information that targets objectives that go beyond project guidelines. 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Read more articles from various media and analyze their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Add technical expertise in the development of multimedia, newsletter, and/or Internet presentations for their grou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Develop a group project (3 in each group) designed to answer the three unit questi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66"/>
                </a:solidFill>
                <a:latin typeface="Arial"/>
              </a:rPr>
              <a:t>a. Why do we read a variety of print media for  </a:t>
            </a:r>
            <a:br>
              <a:rPr sz="2000"/>
            </a:br>
            <a:r>
              <a:rPr b="1" i="1" lang="en-US" sz="2000" spc="-1" strike="noStrike">
                <a:solidFill>
                  <a:srgbClr val="00cc66"/>
                </a:solidFill>
                <a:latin typeface="Arial"/>
              </a:rPr>
              <a:t> infor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66"/>
                </a:solidFill>
                <a:latin typeface="Arial"/>
              </a:rPr>
              <a:t>b. How do various print media convey </a:t>
            </a:r>
            <a:br>
              <a:rPr sz="2000"/>
            </a:br>
            <a:r>
              <a:rPr b="1" i="1" lang="en-US" sz="2000" spc="-1" strike="noStrike">
                <a:solidFill>
                  <a:srgbClr val="00cc66"/>
                </a:solidFill>
                <a:latin typeface="Arial"/>
              </a:rPr>
              <a:t> different perspectiv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66"/>
                </a:solidFill>
                <a:latin typeface="Arial"/>
              </a:rPr>
              <a:t>c. Analyze the way print media informs or </a:t>
            </a:r>
            <a:br>
              <a:rPr sz="2000"/>
            </a:br>
            <a:r>
              <a:rPr b="1" i="1" lang="en-US" sz="2000" spc="-1" strike="noStrike">
                <a:solidFill>
                  <a:srgbClr val="00cc66"/>
                </a:solidFill>
                <a:latin typeface="Arial"/>
              </a:rPr>
              <a:t> misinforms readers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11480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project will involve several forms of media for presentation.  Students may engage their classmates in hands-on activities as part of the project.  The students and instructor will develop the rubric to evaluate each group proj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Some Resourc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lobal Warming Newspaper Arch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ews Determin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dging News 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actors Which Modify News 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http://www.jiscdigitalmedia.ac.uk/images/flickr-words.jpg"/>
          <p:cNvPicPr/>
          <p:nvPr/>
        </p:nvPicPr>
        <p:blipFill>
          <a:blip r:embed="rId1"/>
          <a:stretch/>
        </p:blipFill>
        <p:spPr>
          <a:xfrm>
            <a:off x="0" y="-227160"/>
            <a:ext cx="9372600" cy="7491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http://www.jiscdigitalmedia.ac.uk/images/flickr-words.jpg"/>
          <p:cNvPicPr/>
          <p:nvPr/>
        </p:nvPicPr>
        <p:blipFill>
          <a:blip r:embed="rId1"/>
          <a:stretch/>
        </p:blipFill>
        <p:spPr>
          <a:xfrm>
            <a:off x="0" y="-228600"/>
            <a:ext cx="9372600" cy="7491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62120" y="533520"/>
            <a:ext cx="7772400" cy="47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ords have no power to impres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mind withou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exquisite horr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f their reality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5638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dgar Allan P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Unit Pl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666880"/>
            <a:ext cx="6248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 Way with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nglish/Journalism Grade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y Lynne M. Hoff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Arial"/>
              </a:rPr>
              <a:t>Students will target news writing and distinguish fact from opinion, discuss word choice and language structure, and analyze viewpoints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The focus of the lesson will encourage interactive activities such as K-W-H-L charts, online assessments, group work, individual blogging, written assignments that convey varying viewpoints, and evaluations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udents will work in groups of three to produce a multi-media project that reflects their knowledge of the unit cont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ssential Ques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6781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How do we know the truth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5920" y="205740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62520" y="4038480"/>
            <a:ext cx="4724280" cy="2086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Unit 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-7884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Why do we read a variety of print media for information?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80000"/>
              </a:lnSpc>
              <a:spcBef>
                <a:spcPts val="1001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66"/>
                </a:solidFill>
                <a:latin typeface="Arial"/>
              </a:rPr>
              <a:t>How do various print media convey different perspectives?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80000"/>
              </a:lnSpc>
              <a:spcBef>
                <a:spcPts val="1001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ff"/>
                </a:solidFill>
                <a:latin typeface="Arial"/>
              </a:rPr>
              <a:t>Analyze the way print media informs or misinforms reader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38880" y="304920"/>
            <a:ext cx="12304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Content 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-9576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What is fa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80000"/>
              </a:lnSpc>
              <a:spcBef>
                <a:spcPts val="1001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66"/>
                </a:solidFill>
                <a:latin typeface="Arial"/>
              </a:rPr>
              <a:t>What is an opin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escribe how word choice impacts the author’s viewpoi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>
              <a:lnSpc>
                <a:spcPct val="80000"/>
              </a:lnSpc>
              <a:spcBef>
                <a:spcPts val="1001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ccff"/>
                </a:solidFill>
                <a:latin typeface="Arial"/>
              </a:rPr>
              <a:t>Explain how language structure influences the author’s viewpoi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238880" y="304920"/>
            <a:ext cx="12304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English SOL Standard 7.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Use knowledge of text structures to aid compreh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66"/>
                </a:solidFill>
                <a:latin typeface="Arial"/>
              </a:rPr>
              <a:t>Use knowledge of words and phrases that signal an author’s organizational pattern to aid compreh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istinguish fact from opinion in newspapers, magazines, and other print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dentify the source, viewpoint, and purpose of 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ccff"/>
                </a:solidFill>
                <a:latin typeface="Arial"/>
              </a:rPr>
              <a:t>Describe how word choice and language structure convey an author’s view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ummarize what is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21st Century Skil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nformation Lite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cc66"/>
                </a:solidFill>
                <a:latin typeface="Arial"/>
              </a:rPr>
              <a:t>Accessing information efficiently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cc66"/>
                </a:solidFill>
                <a:latin typeface="Arial"/>
              </a:rPr>
              <a:t>effectively, evaluating information critically and competently, and using information accurately and creatively for the issue or problem at hand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edia Lite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cc66"/>
                </a:solidFill>
                <a:latin typeface="Arial"/>
              </a:rPr>
              <a:t>Examining how individuals interpret messages differently, how values and points of view are included or excluded, and how media can influence beliefs and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22:56:22Z</dcterms:created>
  <dc:creator>Lynne Hoffman</dc:creator>
  <dc:description/>
  <dc:language>en-US</dc:language>
  <cp:lastModifiedBy>pcs</cp:lastModifiedBy>
  <dcterms:modified xsi:type="dcterms:W3CDTF">2009-05-29T13:51:31Z</dcterms:modified>
  <cp:revision>22</cp:revision>
  <dc:subject/>
  <dc:title>Project Overview</dc:title>
</cp:coreProperties>
</file>